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35C4687-B7C0-403D-A5FF-86BAB255F55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E47641FE-2445-4620-9AB3-7C2D5A23EBEC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ings to add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to bring in the PSP compariso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 contrasting the tsp and psp by looking at the process phases. Psp planning compares to tsp launch only it’s for a team, not an individual. Work phases are not so similar but the concepts relate. A tsp plan goes for just a phase, psp encompasses a module. Psp plans are not used to make commitments, tsp launches include management agreement on the plan. Continue with these compariso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oth have scripts, forms,standards, measures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plan and track work including quali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ngineers track time on task, defects, size, and schedul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>
              <a:lnSpc>
                <a:spcPct val="89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rms are similar plan summary – sump, task, schedule, et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verall, need to bring this into the lecture so it relate to their knowledge of psp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more launch coach skills/characteris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stimates are incorrec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s are too big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s are too small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sks are in the wrong ord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he correct tasks are not in the pla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c,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D01D248-8ED9-4776-87E7-05826FFA1760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ject ta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chedule ta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ek ta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e section on determining project statu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222200" y="714240"/>
            <a:ext cx="4707000" cy="353088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53640" y="448632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og the time as soon as you rememb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rst case, make a rule like “I won’t go to lunch without updating my time log” or “I won’t leave work without updating my time log”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D1B9A416-406D-4909-A2EC-AAC3611DAB22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697750A-C2A6-4DDC-B354-721EC80DC72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ast this with a typical team meeting (I.e., non-TSP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33FC294B-3926-4BD1-9CD2-8D906BF5A04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88C84DCF-B709-45FD-A643-E8D6A724D9E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EE39A48D-9432-44AC-ACD5-AC57C1309CB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F1BF9D1-A689-41F8-A1BC-3FF195F355C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55120A1-7960-46F4-B9F6-3B1DCB9FBB0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n this slide, discuss team leader behavioral shif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E3E0FA3-62AF-425C-8BF2-9AD3D971BFDE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5BDDAC15-C925-48AE-B2DA-8DE71A5154BF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4A37F63-DEDE-4142-93D8-A728F8D95F2C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6906ECA2-C000-4A80-98E0-CE744E5F59E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5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B1075E2-4736-467F-912E-DE63773EDDD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219320" y="714240"/>
            <a:ext cx="4708440" cy="353088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weeks pass, individuals can look at their actual versus planned hours on the </a:t>
            </a:r>
            <a:r>
              <a:rPr b="0" i="1" lang="en-US" sz="1100" spc="-1" strike="noStrike">
                <a:solidFill>
                  <a:srgbClr val="000000"/>
                </a:solidFill>
                <a:latin typeface="Arial"/>
              </a:rPr>
              <a:t>SCHE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for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s the team gains experience using the TSP process and detailed planning, they will get better at i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sequently, on-task time will improve over time because interruption time and unplanned task time will go dow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ther ways to improve on-task time inclu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mprehensively planning for every tas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dicating periods of time each week to working on task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nitoring actual on-task time each wee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cognizing and assess unplanned time and interrup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6656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rying to account for unplanned time and interruptions in future pl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77770DE3-B2F7-4954-8359-15C89B03FC9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C70369F2-6B8A-4227-8F8B-F3E0CB94EB01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0602BE77-B75D-4A2F-935A-1B5200C4839D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23744181-7419-4227-8E4D-2CEF54A497DB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04964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9A667D96-8E65-4520-A021-708796FC9AA5}" type="slidenum">
              <a:rPr b="0" i="1" lang="en-US" sz="1000" spc="-1" strike="noStrike">
                <a:solidFill>
                  <a:srgbClr val="39536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6A258323-80ED-4E70-B076-5EC1D25C401D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91C89B60-53EA-4840-82A3-2655041613E8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1049400" y="159372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buClr>
                <a:srgbClr val="9c2108"/>
              </a:buClr>
              <a:buFont typeface="Century Schoolbook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1049400" y="1009800"/>
            <a:ext cx="7872480" cy="23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3200" spc="-1" strike="noStrike">
                <a:solidFill>
                  <a:srgbClr val="9c2108"/>
                </a:solidFill>
                <a:latin typeface="Century Schoolbook"/>
              </a:rPr>
              <a:t>TSP Coach Training</a:t>
            </a:r>
            <a:endParaRPr b="0" lang="en-US" sz="3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36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Running the TSP Project –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4000" spc="-1" strike="noStrike">
                <a:solidFill>
                  <a:srgbClr val="9c2108"/>
                </a:solidFill>
                <a:latin typeface="Century Schoolbook"/>
              </a:rPr>
              <a:t>Tracking and Reporting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Day-to-Day Plan Management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ay-to-da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ze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4059360" y="3521160"/>
            <a:ext cx="410976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ask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most days, task management involves nothing more than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pening the task plan to make sure that the tasks to be worked on that day are in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rking tasks complete as work is finish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some days, task management may also involv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-organizing task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dding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leting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rging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plitting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ing problems with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cket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6" name="Picture 5" descr="C:\Documents and Settings\tchick\Local Settings\Temporary Internet Files\Content.IE5\2XCDIHAD\MCj00788120000[1].wmf"/>
          <p:cNvPicPr/>
          <p:nvPr/>
        </p:nvPicPr>
        <p:blipFill>
          <a:blip r:embed="rId1"/>
          <a:stretch/>
        </p:blipFill>
        <p:spPr>
          <a:xfrm>
            <a:off x="6421320" y="3911760"/>
            <a:ext cx="20098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mpleting Ta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rking tasks complete is importa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the TSP, there is a Planned Value (PV) associated with each task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V is the percentage that task contributes to total planned task hour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10 plan-hour task of a 100 plan-hour total has a PV of 10.0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 task earns it’s planned value when it is marked complet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re is no partial credit (0 Earned Value or 100% EV per task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EV is always equal to the PV (regardless of the actual effort expended on the task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rganizing Ta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morning, before individuals start work, they should open their task plan an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ve completed tasks to the top of the task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ove open tasks right below the completed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sure the tasks they will be working on for the next two weeks (or the near term) are right below the open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y don’t see a task for the work they will be doing today, they should add it to the plan (tell their team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y see a task in their plan that they know they will not be doing, they should delete it from their plan (tell their team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cognizing Problems with Tasks -1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asks are structured badly, lots of tasks will be incomple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may indicate too many parallel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92280" indent="-227160">
              <a:lnSpc>
                <a:spcPct val="90000"/>
              </a:lnSpc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is this likely to affect the team’s statu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should the team do about thi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2030400" y="374184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1014840" y="3938760"/>
            <a:ext cx="42120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2953440" y="3938760"/>
            <a:ext cx="47772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2030400" y="333072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2030400" y="415296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8" name="Oval 9"/>
          <p:cNvSpPr/>
          <p:nvPr/>
        </p:nvSpPr>
        <p:spPr>
          <a:xfrm>
            <a:off x="2030400" y="4565520"/>
            <a:ext cx="330120" cy="25272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39" name="AutoShape 10"/>
          <p:cNvCxnSpPr>
            <a:stCxn id="134" idx="3"/>
            <a:endCxn id="136" idx="3"/>
          </p:cNvCxnSpPr>
          <p:nvPr/>
        </p:nvCxnSpPr>
        <p:spPr>
          <a:xfrm flipV="1">
            <a:off x="1442880" y="3546000"/>
            <a:ext cx="635760" cy="5277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0" name="AutoShape 11"/>
          <p:cNvCxnSpPr>
            <a:stCxn id="134" idx="3"/>
            <a:endCxn id="133" idx="2"/>
          </p:cNvCxnSpPr>
          <p:nvPr/>
        </p:nvCxnSpPr>
        <p:spPr>
          <a:xfrm flipV="1">
            <a:off x="1442880" y="3867840"/>
            <a:ext cx="588240" cy="2055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1" name="AutoShape 12"/>
          <p:cNvCxnSpPr>
            <a:stCxn id="134" idx="3"/>
            <a:endCxn id="137" idx="2"/>
          </p:cNvCxnSpPr>
          <p:nvPr/>
        </p:nvCxnSpPr>
        <p:spPr>
          <a:xfrm>
            <a:off x="1442880" y="4073400"/>
            <a:ext cx="588240" cy="2073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2" name="AutoShape 13"/>
          <p:cNvCxnSpPr>
            <a:stCxn id="134" idx="3"/>
            <a:endCxn id="138" idx="1"/>
          </p:cNvCxnSpPr>
          <p:nvPr/>
        </p:nvCxnSpPr>
        <p:spPr>
          <a:xfrm>
            <a:off x="1442880" y="4073040"/>
            <a:ext cx="635760" cy="52920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3" name="AutoShape 14"/>
          <p:cNvCxnSpPr>
            <a:stCxn id="133" idx="6"/>
            <a:endCxn id="135" idx="1"/>
          </p:cNvCxnSpPr>
          <p:nvPr/>
        </p:nvCxnSpPr>
        <p:spPr>
          <a:xfrm>
            <a:off x="2360520" y="3868200"/>
            <a:ext cx="588240" cy="2055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4" name="AutoShape 15"/>
          <p:cNvCxnSpPr>
            <a:stCxn id="136" idx="5"/>
            <a:endCxn id="135" idx="1"/>
          </p:cNvCxnSpPr>
          <p:nvPr/>
        </p:nvCxnSpPr>
        <p:spPr>
          <a:xfrm>
            <a:off x="2313000" y="3546360"/>
            <a:ext cx="635760" cy="5277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5" name="AutoShape 16"/>
          <p:cNvCxnSpPr>
            <a:stCxn id="137" idx="6"/>
            <a:endCxn id="135" idx="1"/>
          </p:cNvCxnSpPr>
          <p:nvPr/>
        </p:nvCxnSpPr>
        <p:spPr>
          <a:xfrm flipV="1">
            <a:off x="2360520" y="4073040"/>
            <a:ext cx="588240" cy="2073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46" name="AutoShape 17"/>
          <p:cNvCxnSpPr>
            <a:stCxn id="138" idx="7"/>
            <a:endCxn id="135" idx="1"/>
          </p:cNvCxnSpPr>
          <p:nvPr/>
        </p:nvCxnSpPr>
        <p:spPr>
          <a:xfrm flipV="1">
            <a:off x="2313000" y="4073040"/>
            <a:ext cx="635760" cy="52920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grpSp>
        <p:nvGrpSpPr>
          <p:cNvPr id="147" name="Group 18"/>
          <p:cNvGrpSpPr/>
          <p:nvPr/>
        </p:nvGrpSpPr>
        <p:grpSpPr>
          <a:xfrm>
            <a:off x="4779000" y="3932280"/>
            <a:ext cx="3691080" cy="271440"/>
            <a:chOff x="4779000" y="3932280"/>
            <a:chExt cx="3691080" cy="271440"/>
          </a:xfrm>
        </p:grpSpPr>
        <p:sp>
          <p:nvSpPr>
            <p:cNvPr id="148" name="Oval 19"/>
            <p:cNvSpPr/>
            <p:nvPr/>
          </p:nvSpPr>
          <p:spPr>
            <a:xfrm>
              <a:off x="6120000" y="3941640"/>
              <a:ext cx="330120" cy="25236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49" name="AutoShape 20"/>
            <p:cNvSpPr/>
            <p:nvPr/>
          </p:nvSpPr>
          <p:spPr>
            <a:xfrm>
              <a:off x="4779000" y="3932280"/>
              <a:ext cx="421200" cy="269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start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0" name="AutoShape 21"/>
            <p:cNvSpPr/>
            <p:nvPr/>
          </p:nvSpPr>
          <p:spPr>
            <a:xfrm>
              <a:off x="7992360" y="3934080"/>
              <a:ext cx="477720" cy="2696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done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1" name="Oval 22"/>
            <p:cNvSpPr/>
            <p:nvPr/>
          </p:nvSpPr>
          <p:spPr>
            <a:xfrm>
              <a:off x="5497560" y="3941640"/>
              <a:ext cx="330120" cy="25236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A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2" name="Oval 23"/>
            <p:cNvSpPr/>
            <p:nvPr/>
          </p:nvSpPr>
          <p:spPr>
            <a:xfrm>
              <a:off x="6742080" y="3941640"/>
              <a:ext cx="330120" cy="25236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153" name="Oval 24"/>
            <p:cNvSpPr/>
            <p:nvPr/>
          </p:nvSpPr>
          <p:spPr>
            <a:xfrm>
              <a:off x="7364520" y="3941640"/>
              <a:ext cx="330120" cy="252360"/>
            </a:xfrm>
            <a:prstGeom prst="ellipse">
              <a:avLst/>
            </a:prstGeom>
            <a:noFill/>
            <a:ln w="9360">
              <a:solidFill>
                <a:srgbClr val="39536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9536b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39536b"/>
                </a:solidFill>
                <a:latin typeface="Arial"/>
              </a:endParaRPr>
            </a:p>
          </p:txBody>
        </p:sp>
        <p:cxnSp>
          <p:nvCxnSpPr>
            <p:cNvPr id="154" name="AutoShape 25"/>
            <p:cNvCxnSpPr>
              <a:stCxn id="149" idx="3"/>
              <a:endCxn id="151" idx="2"/>
            </p:cNvCxnSpPr>
            <p:nvPr/>
          </p:nvCxnSpPr>
          <p:spPr>
            <a:xfrm>
              <a:off x="5206680" y="4067280"/>
              <a:ext cx="291240" cy="216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55" name="AutoShape 26"/>
            <p:cNvCxnSpPr>
              <a:stCxn id="148" idx="6"/>
              <a:endCxn id="152" idx="2"/>
            </p:cNvCxnSpPr>
            <p:nvPr/>
          </p:nvCxnSpPr>
          <p:spPr>
            <a:xfrm>
              <a:off x="6449760" y="4068360"/>
              <a:ext cx="292680" cy="108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56" name="AutoShape 27"/>
            <p:cNvCxnSpPr>
              <a:stCxn id="151" idx="6"/>
              <a:endCxn id="148" idx="2"/>
            </p:cNvCxnSpPr>
            <p:nvPr/>
          </p:nvCxnSpPr>
          <p:spPr>
            <a:xfrm>
              <a:off x="5827680" y="4068360"/>
              <a:ext cx="293040" cy="108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57" name="AutoShape 28"/>
            <p:cNvCxnSpPr>
              <a:stCxn id="152" idx="6"/>
              <a:endCxn id="153" idx="2"/>
            </p:cNvCxnSpPr>
            <p:nvPr/>
          </p:nvCxnSpPr>
          <p:spPr>
            <a:xfrm>
              <a:off x="7072200" y="4068360"/>
              <a:ext cx="293040" cy="108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  <p:cxnSp>
          <p:nvCxnSpPr>
            <p:cNvPr id="158" name="AutoShape 29"/>
            <p:cNvCxnSpPr>
              <a:stCxn id="153" idx="6"/>
              <a:endCxn id="150" idx="1"/>
            </p:cNvCxnSpPr>
            <p:nvPr/>
          </p:nvCxnSpPr>
          <p:spPr>
            <a:xfrm>
              <a:off x="7694280" y="4068360"/>
              <a:ext cx="292680" cy="1080"/>
            </a:xfrm>
            <a:prstGeom prst="straightConnector1">
              <a:avLst/>
            </a:prstGeom>
            <a:ln w="9360">
              <a:solidFill>
                <a:srgbClr val="39536b"/>
              </a:solidFill>
              <a:miter/>
              <a:tailEnd len="med" type="triangle" w="med"/>
            </a:ln>
          </p:spPr>
        </p:cxnSp>
      </p:grpSp>
      <p:sp>
        <p:nvSpPr>
          <p:cNvPr id="159" name="Text Box 30"/>
          <p:cNvSpPr/>
          <p:nvPr/>
        </p:nvSpPr>
        <p:spPr>
          <a:xfrm>
            <a:off x="3620520" y="3726000"/>
            <a:ext cx="902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instea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60" name="Picture 9" descr=""/>
          <p:cNvPicPr/>
          <p:nvPr/>
        </p:nvPicPr>
        <p:blipFill>
          <a:blip r:embed="rId1"/>
          <a:stretch/>
        </p:blipFill>
        <p:spPr>
          <a:xfrm>
            <a:off x="6913440" y="5154480"/>
            <a:ext cx="16066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Recognizing Problems with Tasks -2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s are too larg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ffort estimates for single tasks are much larger than an individual’s average weekly scheduled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ctual time for completed single tasks is much larger than an individuals average weekly scheduled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678240" indent="-222480">
              <a:buClr>
                <a:srgbClr val="39536b"/>
              </a:buClr>
              <a:buFont typeface="Arial"/>
              <a:buChar char="-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is this likely to affect the team’s statu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should the team do about thi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3" name="Oval 4"/>
          <p:cNvSpPr/>
          <p:nvPr/>
        </p:nvSpPr>
        <p:spPr>
          <a:xfrm>
            <a:off x="2792520" y="4059360"/>
            <a:ext cx="747720" cy="57132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057680" y="4208400"/>
            <a:ext cx="42120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3807360" y="4208400"/>
            <a:ext cx="47772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1746360" y="4043520"/>
            <a:ext cx="784080" cy="5997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67" name="AutoShape 8"/>
          <p:cNvCxnSpPr>
            <a:stCxn id="164" idx="3"/>
            <a:endCxn id="166" idx="2"/>
          </p:cNvCxnSpPr>
          <p:nvPr/>
        </p:nvCxnSpPr>
        <p:spPr>
          <a:xfrm>
            <a:off x="1485720" y="4343040"/>
            <a:ext cx="26100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8" name="AutoShape 9"/>
          <p:cNvCxnSpPr>
            <a:stCxn id="163" idx="6"/>
            <a:endCxn id="165" idx="1"/>
          </p:cNvCxnSpPr>
          <p:nvPr/>
        </p:nvCxnSpPr>
        <p:spPr>
          <a:xfrm flipV="1">
            <a:off x="3539880" y="4343040"/>
            <a:ext cx="262080" cy="21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69" name="AutoShape 10"/>
          <p:cNvCxnSpPr>
            <a:stCxn id="166" idx="6"/>
            <a:endCxn id="163" idx="2"/>
          </p:cNvCxnSpPr>
          <p:nvPr/>
        </p:nvCxnSpPr>
        <p:spPr>
          <a:xfrm>
            <a:off x="2530440" y="4343400"/>
            <a:ext cx="262800" cy="21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sp>
        <p:nvSpPr>
          <p:cNvPr id="170" name="Oval 11"/>
          <p:cNvSpPr/>
          <p:nvPr/>
        </p:nvSpPr>
        <p:spPr>
          <a:xfrm>
            <a:off x="6229440" y="421812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4975560" y="4208400"/>
            <a:ext cx="42120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start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7971480" y="4210200"/>
            <a:ext cx="477720" cy="26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3" name="Oval 14"/>
          <p:cNvSpPr/>
          <p:nvPr/>
        </p:nvSpPr>
        <p:spPr>
          <a:xfrm>
            <a:off x="5651640" y="4218120"/>
            <a:ext cx="33012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4" name="Oval 15"/>
          <p:cNvSpPr/>
          <p:nvPr/>
        </p:nvSpPr>
        <p:spPr>
          <a:xfrm>
            <a:off x="6808680" y="4218120"/>
            <a:ext cx="33048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75" name="Oval 16"/>
          <p:cNvSpPr/>
          <p:nvPr/>
        </p:nvSpPr>
        <p:spPr>
          <a:xfrm>
            <a:off x="7386480" y="4218120"/>
            <a:ext cx="330480" cy="252360"/>
          </a:xfrm>
          <a:prstGeom prst="ellipse">
            <a:avLst/>
          </a:prstGeom>
          <a:noFill/>
          <a:ln w="936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D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cxnSp>
        <p:nvCxnSpPr>
          <p:cNvPr id="176" name="AutoShape 17"/>
          <p:cNvCxnSpPr>
            <a:stCxn id="171" idx="3"/>
            <a:endCxn id="173" idx="2"/>
          </p:cNvCxnSpPr>
          <p:nvPr/>
        </p:nvCxnSpPr>
        <p:spPr>
          <a:xfrm>
            <a:off x="5403960" y="4343400"/>
            <a:ext cx="248400" cy="216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7" name="AutoShape 18"/>
          <p:cNvCxnSpPr>
            <a:stCxn id="170" idx="6"/>
            <a:endCxn id="174" idx="2"/>
          </p:cNvCxnSpPr>
          <p:nvPr/>
        </p:nvCxnSpPr>
        <p:spPr>
          <a:xfrm>
            <a:off x="6559560" y="4344480"/>
            <a:ext cx="24984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8" name="AutoShape 19"/>
          <p:cNvCxnSpPr>
            <a:stCxn id="173" idx="6"/>
            <a:endCxn id="170" idx="2"/>
          </p:cNvCxnSpPr>
          <p:nvPr/>
        </p:nvCxnSpPr>
        <p:spPr>
          <a:xfrm>
            <a:off x="5981760" y="4344480"/>
            <a:ext cx="24840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79" name="AutoShape 20"/>
          <p:cNvCxnSpPr>
            <a:stCxn id="174" idx="6"/>
            <a:endCxn id="175" idx="2"/>
          </p:cNvCxnSpPr>
          <p:nvPr/>
        </p:nvCxnSpPr>
        <p:spPr>
          <a:xfrm>
            <a:off x="7138800" y="4344480"/>
            <a:ext cx="24804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cxnSp>
        <p:nvCxnSpPr>
          <p:cNvPr id="180" name="AutoShape 21"/>
          <p:cNvCxnSpPr>
            <a:stCxn id="175" idx="6"/>
            <a:endCxn id="172" idx="1"/>
          </p:cNvCxnSpPr>
          <p:nvPr/>
        </p:nvCxnSpPr>
        <p:spPr>
          <a:xfrm>
            <a:off x="7716960" y="4344480"/>
            <a:ext cx="249840" cy="1080"/>
          </a:xfrm>
          <a:prstGeom prst="straightConnector1">
            <a:avLst/>
          </a:prstGeom>
          <a:ln w="9360">
            <a:solidFill>
              <a:srgbClr val="39536b"/>
            </a:solidFill>
            <a:miter/>
            <a:tailEnd len="med" type="triangle" w="med"/>
          </a:ln>
        </p:spPr>
      </p:cxnSp>
      <p:sp>
        <p:nvSpPr>
          <p:cNvPr id="181" name="Text Box 22"/>
          <p:cNvSpPr/>
          <p:nvPr/>
        </p:nvSpPr>
        <p:spPr>
          <a:xfrm>
            <a:off x="4144680" y="3768840"/>
            <a:ext cx="9028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instea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66ff"/>
                </a:solidFill>
                <a:latin typeface="Arial"/>
              </a:rPr>
              <a:t>of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2" name="Picture 9" descr=""/>
          <p:cNvPicPr/>
          <p:nvPr/>
        </p:nvPicPr>
        <p:blipFill>
          <a:blip r:embed="rId1"/>
          <a:stretch/>
        </p:blipFill>
        <p:spPr>
          <a:xfrm>
            <a:off x="6913440" y="5154480"/>
            <a:ext cx="1606680" cy="11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dicators of TASK Problem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1017720" y="1530360"/>
            <a:ext cx="7413480" cy="2093760"/>
          </a:xfrm>
          <a:prstGeom prst="rect">
            <a:avLst/>
          </a:prstGeom>
          <a:ln w="12600">
            <a:solidFill>
              <a:srgbClr val="39536b"/>
            </a:solidFill>
            <a:miter/>
          </a:ln>
        </p:spPr>
      </p:pic>
      <p:sp>
        <p:nvSpPr>
          <p:cNvPr id="185" name="Rectangle 3"/>
          <p:cNvSpPr/>
          <p:nvPr/>
        </p:nvSpPr>
        <p:spPr>
          <a:xfrm>
            <a:off x="717480" y="3803760"/>
            <a:ext cx="771048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difference between Actual “Schedule hours this cycle to date” (24.8) and Actual “To-date hours for tasks completed” (2.1) shows the hours locked in unfinished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general rule of thumb is that there should be no more than one week’s worth of open task hours (12.4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are some other indicators of task problem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Bucket Ta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common to allocate resources for tasks team members know they will be doing that are scattered throughout the project, or will come up on an event-driven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ample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ole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quirements elicitation meeting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ystem test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uild and integration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se tasks, they may want to include a “bucket” of hours in your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y “borrow” hours from the “bucket” as they execute some of the task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88" name="Picture 4" descr="C:\Documents and Settings\tchick\Local Settings\Temporary Internet Files\Content.IE5\ATUNA1IJ\MCj03839380000[1].wmf"/>
          <p:cNvPicPr/>
          <p:nvPr/>
        </p:nvPicPr>
        <p:blipFill>
          <a:blip r:embed="rId1"/>
          <a:stretch/>
        </p:blipFill>
        <p:spPr>
          <a:xfrm>
            <a:off x="6969240" y="2544840"/>
            <a:ext cx="158580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ad Balancing Task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work progresses, some team members will get ahead of schedules as others fall behind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 move tasks from team member 1 to team member 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task to team member 2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-estimate the task using team member 2’s historical data if appropriat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1" name="Picture 8" descr="C:\Documents and Settings\tchick\Local Settings\Temporary Internet Files\Content.IE5\IJOLA5U7\MCj02955840000[1].wmf"/>
          <p:cNvPicPr/>
          <p:nvPr/>
        </p:nvPicPr>
        <p:blipFill>
          <a:blip r:embed="rId1"/>
          <a:stretch/>
        </p:blipFill>
        <p:spPr>
          <a:xfrm>
            <a:off x="2908440" y="4172040"/>
            <a:ext cx="28033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400" spc="-1" strike="noStrike">
                <a:solidFill>
                  <a:srgbClr val="9c2108"/>
                </a:solidFill>
                <a:latin typeface="Arial"/>
              </a:rPr>
              <a:t>Why Do They Need Sufficient Schedule Hours?</a:t>
            </a:r>
            <a:endParaRPr b="1" lang="en-US" sz="24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task plan shows a total of 200 estimated hours for all tasks in the plan, then the schedule plan should show an availability of at least 200 task hour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ough available hours are needed to enable calculation of planned completion dates, PV, and EV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Outline: Running the Projec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496520"/>
            <a:ext cx="8126280" cy="480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SP roles:  getting roles to be successful on a team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Tracking and reporting:  collecting data, the weekly team meeting, reporting to management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the baseline plan:  keeping the team commitment, evaluating status, adjusting plans when necessary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Maintaining a quality focus:  responsibilities for quality, TSP quality methods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:  areas where the coach helps TSP discipline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Coaching the team leader:  handling problems with a TSP team leader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800" spc="-1" strike="noStrike">
                <a:solidFill>
                  <a:srgbClr val="39536b"/>
                </a:solidFill>
                <a:latin typeface="Arial"/>
              </a:rPr>
              <a:t>Post-launch Coaching:  post-launch coaching strategy and plan</a:t>
            </a:r>
            <a:endParaRPr b="0" lang="en-US" sz="18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00" name="AutoShape 2052"/>
          <p:cNvSpPr/>
          <p:nvPr/>
        </p:nvSpPr>
        <p:spPr>
          <a:xfrm>
            <a:off x="299880" y="2076480"/>
            <a:ext cx="327240" cy="287280"/>
          </a:xfrm>
          <a:prstGeom prst="rightArrow">
            <a:avLst>
              <a:gd name="adj1" fmla="val 50000"/>
              <a:gd name="adj2" fmla="val 28477"/>
            </a:avLst>
          </a:prstGeom>
          <a:solidFill>
            <a:srgbClr val="39536b"/>
          </a:solidFill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act of Task Modification -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impact does task addition/deletion/modification have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line plan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value of completed, open, and to-do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alue of completed, open, and to-do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-Date plan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o-Date ear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ning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an you think of other impacts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96" name="Picture 9" descr=""/>
          <p:cNvPicPr/>
          <p:nvPr/>
        </p:nvPicPr>
        <p:blipFill>
          <a:blip r:embed="rId1"/>
          <a:stretch/>
        </p:blipFill>
        <p:spPr>
          <a:xfrm>
            <a:off x="6080040" y="4292640"/>
            <a:ext cx="1606680" cy="11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mpact of Task Modification -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017360" y="1499760"/>
            <a:ext cx="741348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otice the total plan hours on the task plan and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EK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form increase/decrease to reflect the new/deleted tasks.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baseline hours on form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WEEK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reflect the original estimat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Baseline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hours diverge from </a:t>
            </a:r>
            <a:r>
              <a:rPr b="0" i="1" lang="en-US" sz="2200" spc="-1" strike="noStrike">
                <a:solidFill>
                  <a:srgbClr val="39536b"/>
                </a:solidFill>
                <a:latin typeface="Arial"/>
              </a:rPr>
              <a:t>Curren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hours, what should you do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grpSp>
        <p:nvGrpSpPr>
          <p:cNvPr id="199" name="Group 11"/>
          <p:cNvGrpSpPr/>
          <p:nvPr/>
        </p:nvGrpSpPr>
        <p:grpSpPr>
          <a:xfrm>
            <a:off x="411120" y="3651120"/>
            <a:ext cx="8410680" cy="2927520"/>
            <a:chOff x="411120" y="3651120"/>
            <a:chExt cx="8410680" cy="2927520"/>
          </a:xfrm>
        </p:grpSpPr>
        <p:pic>
          <p:nvPicPr>
            <p:cNvPr id="200" name="Picture 4" descr=""/>
            <p:cNvPicPr/>
            <p:nvPr/>
          </p:nvPicPr>
          <p:blipFill>
            <a:blip r:embed="rId1"/>
            <a:srcRect l="0" t="32749" r="0" b="0"/>
            <a:stretch/>
          </p:blipFill>
          <p:spPr>
            <a:xfrm>
              <a:off x="411120" y="3651120"/>
              <a:ext cx="8410680" cy="292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Oval 5"/>
            <p:cNvSpPr/>
            <p:nvPr/>
          </p:nvSpPr>
          <p:spPr>
            <a:xfrm>
              <a:off x="1903320" y="4692600"/>
              <a:ext cx="782640" cy="355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2" name="Oval 6"/>
            <p:cNvSpPr/>
            <p:nvPr/>
          </p:nvSpPr>
          <p:spPr>
            <a:xfrm>
              <a:off x="1903320" y="4844880"/>
              <a:ext cx="782640" cy="355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  <p:sp>
          <p:nvSpPr>
            <p:cNvPr id="203" name="Rectangle 10"/>
            <p:cNvSpPr/>
            <p:nvPr/>
          </p:nvSpPr>
          <p:spPr>
            <a:xfrm>
              <a:off x="1903320" y="3870360"/>
              <a:ext cx="1052640" cy="1270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buClr>
                  <a:srgbClr val="39536b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9536b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ime management in the TSP involves two activ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time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ing available hour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697360" y="2809800"/>
            <a:ext cx="17053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ime Management – A Time Lo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336600" y="1758960"/>
            <a:ext cx="847548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Time Management – Schedule Plan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17360" y="1452600"/>
            <a:ext cx="7413480" cy="48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s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Vacation dates chang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get sic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ople get pulled off this project to work on other project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s should only be changed for the future, never the pas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115920" indent="12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s are updated as team members learn more about their actual schedul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389320" y="4775040"/>
            <a:ext cx="624996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Defect Management – A Defect Log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50608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ize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size data is tracked using a TSP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tual size data should be entered by the owner of the work product in his or her TSP tool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ly Team Meeting -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e Vide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he Weekly Team Meeting -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017360" y="1538280"/>
            <a:ext cx="741348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is the most important single activity that the team can perform to maintain energy and cohes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is the forum that the team uses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progress against th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the status on the project's issues and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6160" indent="-20160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mmunicating with each oth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meeting, all individual plans are consolidated into a team plan to assess team progres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ach works with the team to prepare for and conduct the weekly team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dividual Responsibilit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fore the planning manager prepares the weekly summary of team data, each individual must ensure that their status is curr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d task, schedule, size, and defect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r the meeting, each individual should prep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against their individual role manager responsibilit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against goals assigned to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or updates against risks and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d task and schedule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ist of tasks planned for the next wee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end of this lecture, you will be able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st a TSP team in tracking and reporting against thei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common occurrences and problems with tracking and reporting, and apply hints for dealing with th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lanning Manager Responsibiliti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017360" y="1558440"/>
            <a:ext cx="74134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lanning manager ensures that all individuals have updated their pla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y haven’t, the planning manager should ask them to do so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they habitually don’t update their plans, they must answer to the team in the weekly mee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n a short time, each person should learn to keep their plans current without interven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planning manager prepares the team summary reports for the meeting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raph of earned value (plan versus actual)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graph of actual versus planned hour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EEK form, showing tasks completed and planned tasks for the next week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 Scrip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017360" y="1485720"/>
            <a:ext cx="741348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fer to the script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provides a summary of any new developments or team issu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role manager reports on their assigned role responsibilit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is reported against team goals, if status is du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isks are reviewed as required for that particular week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individual reviews progress and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planning manager summarizes team progress and statu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ch individual reports on tasks planned for the next week, including any dependenc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reviews expected issues or actions for dealing with the dependenci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wraps up the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During the Meet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017360" y="1517400"/>
            <a:ext cx="741348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ads the weekly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sures that all individuals are providing status and are actively involved in the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leader should advise the team on specifically what will be reported to management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elps to motivate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iggers issues that need to be raised to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meeting is intended to promote communication, but should still be held to the times on the agend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5800" indent="-32580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ny issues that need to be discussed in detail should be discussed in a separately-scheduled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Reporting to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ost TSP projects start with strong management suppor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launch process produced a plan, committed the team, and gained acceptance by manage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Management expects the team to work to their plan and to meet their commitment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management does not hear from the team, they get nervou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suspect problem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y may revert to micromanage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Keep managers informed of the project's statu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Report team data from the weekly meeting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djust the level of detail so that your management is comfortable and not over- or underwhelm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nswer the need or intent, not the question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Weekly Reporting to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 a starting point, the team should report the following to management on a weekly basi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arned value for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y of the WEEK for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mmary of the risks and issu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inutes from the weekly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ased on management’s reaction, the team can modify the format and content of the report accordingly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Periodic Reporting to Managemen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eriodically, projects may meet with management and/or the customer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ATUS script is used to guide the meet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STATUS specification is used to help prepare accurate, complete, concise, and informative management status repor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 Considerations 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coach can work with the team to look at data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a daily ba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n a weekly basi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ompletion of ta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ompletion of pha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ompletion of cyc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the completion of parts or assembli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t each of these points, data are available to help individuals understand where they are and to indicate whether commitments can still be mad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:  On-task Tim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individuals are not getting the number of hours planned, they should consider these ques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What are the things that are interrupting on-task time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How can these interruptions be reduced or eliminated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hould the planned hours be changed, thus suggesting the need for reassessing the committed date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If individuals are getting more hours than planned, they should consider these question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n they actually increase their planned hours in the future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n they accelerate their work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an they take on more work and still keep their commitments?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ver time, the detailed plans will be more comprehensive, and fewer tasks will be miss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aching:  Quality Data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Defects found provide clues for finding and preventing similar defects in the futur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were the defects foun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en were they injected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they have been found earlier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ow could they be prevented in the futur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fter testing phases, the quality/process manager should lead a review of defects with the entire te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ign someone to look for and fix remaining defect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quality plan (predicted defects based on actual counts)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pdate the process with needed change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essages to Remember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017360" y="1588680"/>
            <a:ext cx="7413480" cy="471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success relies on accurate tracking, collecting, and reporting of individual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s have data that they can periodically look at to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their progress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djustments in their detailed plans, when necess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f the plan doesn’t match the work, change the pla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 is an effective forum in which the team c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view consolidated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ess progress against the team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3000" indent="-20592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ke adjustments to team plans, if need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SP schedule track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weekly team mee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porting to managemen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From the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s completed a TSP launch and has planned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has made a commitment and obtained management approval to procee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gins to carry out their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 will not get the intended benefits of TSP if they do not follow the process, which includes collecting and tracking data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chedule Tracking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17360" y="1485720"/>
            <a:ext cx="7413480" cy="48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tracking in TSP is based 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team’s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hour and task completion dat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lan and earned valu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 plans facilitate precise schedule tracking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am members are each responsible fo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athering data on their wor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racking status against their personal pla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quality of the work that they produc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keeping the team informed of their progr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22920" indent="-19944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marL="329040" indent="-32904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dividual team member data are consolidated each week so that the team can assess progress against goals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Sample – Cumulative EV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1" descr=""/>
          <p:cNvPicPr/>
          <p:nvPr/>
        </p:nvPicPr>
        <p:blipFill>
          <a:blip r:embed="rId2"/>
          <a:stretch/>
        </p:blipFill>
        <p:spPr>
          <a:xfrm>
            <a:off x="174600" y="1411200"/>
            <a:ext cx="5265720" cy="3592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"/>
          <p:cNvPicPr/>
          <p:nvPr/>
        </p:nvPicPr>
        <p:blipFill>
          <a:blip r:embed="rId3"/>
          <a:stretch/>
        </p:blipFill>
        <p:spPr>
          <a:xfrm>
            <a:off x="3398760" y="4871880"/>
            <a:ext cx="563724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200" spc="-1" strike="noStrike">
                <a:solidFill>
                  <a:srgbClr val="9c2108"/>
                </a:solidFill>
                <a:latin typeface="Arial"/>
              </a:rPr>
              <a:t>Sample – Planned and Actual Hours</a:t>
            </a:r>
            <a:endParaRPr b="1" lang="en-US" sz="32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017360" y="1709640"/>
            <a:ext cx="7413480" cy="459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02" descr=""/>
          <p:cNvPicPr/>
          <p:nvPr/>
        </p:nvPicPr>
        <p:blipFill>
          <a:blip r:embed="rId2"/>
          <a:stretch/>
        </p:blipFill>
        <p:spPr>
          <a:xfrm>
            <a:off x="2119320" y="5060880"/>
            <a:ext cx="4829040" cy="1554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0" descr=""/>
          <p:cNvPicPr/>
          <p:nvPr/>
        </p:nvPicPr>
        <p:blipFill>
          <a:blip r:embed="rId3"/>
          <a:stretch/>
        </p:blipFill>
        <p:spPr>
          <a:xfrm>
            <a:off x="496800" y="1452600"/>
            <a:ext cx="4011840" cy="3595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8" descr=""/>
          <p:cNvPicPr/>
          <p:nvPr/>
        </p:nvPicPr>
        <p:blipFill>
          <a:blip r:embed="rId4"/>
          <a:stretch/>
        </p:blipFill>
        <p:spPr>
          <a:xfrm>
            <a:off x="4533840" y="1449360"/>
            <a:ext cx="40165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After the Launch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rom the launch, each team member has a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ask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chedul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V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Quality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t is the first working day after the laun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at do they do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120" name="Picture 5" descr="C:\Documents and Settings\tchick\Local Settings\Temporary Internet Files\Content.IE5\ATUNA1IJ\MCj02304450000[1].wmf"/>
          <p:cNvPicPr/>
          <p:nvPr/>
        </p:nvPicPr>
        <p:blipFill>
          <a:blip r:embed="rId1"/>
          <a:stretch/>
        </p:blipFill>
        <p:spPr>
          <a:xfrm>
            <a:off x="5834160" y="4121280"/>
            <a:ext cx="245592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34Z</dcterms:modified>
  <cp:revision>212</cp:revision>
  <dc:subject/>
  <dc:title>No Slide Title</dc:title>
</cp:coreProperties>
</file>